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7C1-563B-49A0-8064-58A87919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D3D0-3F39-48AA-9B92-07765773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7D4-5B0C-408F-B4AC-DA8DC0B4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B48C-A8C2-4C3A-ADBC-8F9CBF65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C020-9AC6-45FA-A296-8B96EA38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9577-F219-4A8D-896C-D24C8E01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E1CC-8716-4332-85AF-31A71847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AFA7-6F3B-4E97-A9F2-2B9B13FD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507C-97BA-47DF-B4D8-89233FAA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D8BE-53E1-4533-8E02-D9659DB2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5325-97C9-4389-B2DD-0EF5F76C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F96-55BC-4B06-9F4B-14EEA455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251C-4FD7-4EBD-8B7D-735A9A72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E64A-62C6-46F7-889B-F7CBCD3C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7C0F-C5CD-444D-A80B-969BCB14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69A6-E9DF-49BA-AF65-1AB6D3CB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8015-47B7-4A78-B074-23559D4F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A0D-3EB6-49E3-9322-9E10358A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A65-58E8-442C-A79E-9DA4CDB5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4A6-49D0-4CEF-9DEA-FBC54B9D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FE69-6C6F-4B41-9310-11050CC7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94A-E4FA-429C-B1FE-F4AE4F56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444-C6E8-458A-A500-E0E82F8C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E74F-AADC-4D8A-B2B0-7DBDF536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3D1F-BC96-47FB-ABDF-8472A53A1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4CB2-6605-43A0-8ADE-FCED3D945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Elevii clasei a IV- a prezinta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2b00"/>
                </a:solidFill>
                <a:latin typeface="comic"/>
              </a:rPr>
              <a:t>FRUMUSETI CREATE DE NATUR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2b00"/>
                </a:solidFill>
                <a:latin typeface="comic"/>
              </a:rPr>
              <a:t>CHEILE TURZ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Membrii echipei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ad Elena Ana- 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iu Tu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a I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ala Mihai Voda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 Che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onator: inv. Natalia Za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chipa noastra va prezenta   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Cheile Turzii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19320" y="1752480"/>
            <a:ext cx="685800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343400" y="2286000"/>
            <a:ext cx="329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Vom prezenta: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2b00"/>
                </a:solidFill>
                <a:latin typeface="Monotype Corsiva"/>
              </a:rPr>
              <a:t>Descrie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Monotype Corsiva"/>
              </a:rPr>
              <a:t>Flora si fa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Pester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2b00"/>
                </a:solidFill>
                <a:latin typeface="Monotype Corsiva"/>
              </a:rPr>
              <a:t>Excursiile noastre in Cheile Turzii- fotograf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Monotype Corsiva"/>
              </a:rPr>
              <a:t>Impresiile noastre- compun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3:33:40Z</dcterms:created>
  <dc:creator>ws15</dc:creator>
  <dc:description/>
  <dc:language>en-US</dc:language>
  <cp:lastModifiedBy>ws15</cp:lastModifiedBy>
  <dcterms:modified xsi:type="dcterms:W3CDTF">2009-12-10T14:08:59Z</dcterms:modified>
  <cp:revision>3</cp:revision>
  <dc:subject/>
  <dc:title>Elevii clasei a IV- a prezinta</dc:title>
</cp:coreProperties>
</file>